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5BD6-6336-4CB6-84B4-24F5F49D5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C3DC-A5F1-406D-AC7A-583EB84A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376A-63D6-4FF4-A319-D3116C779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23DF-2486-4BAC-AD76-CF988B6FB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8657A-2999-4142-816E-AA74F6A76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CE7A-0FA3-4F2C-B3BB-6C88B7E8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AEF8-6BCF-4069-9948-13F91FC1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8E46B-0385-4549-BB87-DC1908AD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7794-5503-4EE3-9FAF-DEE2F1E1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551E-E624-45A8-A31E-44169B32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1C880-3513-462E-92EE-9AD0E8A5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3765-55F0-4828-BE87-C83DCE24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0998-BD42-43C1-9F1D-8D057838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C8E3F-7F65-4D0D-B19A-20DB0E90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15B2-BFE8-4A0C-864A-7D0A2D77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9CE6-3EEC-4106-A1DE-9765F205E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40C8-4D0D-4B04-A3C3-F11BB8D2D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C94B-A84A-445A-ADFC-ED1FE266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CE67-7FDC-4CE2-A896-88D24172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4E2A-E1E7-4969-B9AD-3E75F6A0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8FED-AEAF-4821-9AAB-8DE987AE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2955-ABD2-4A68-BFD0-18952341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1E73-87ED-47DB-A04A-6584719F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2F07-CFD9-42AC-9F8B-3D6C8D28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FC63-D162-43F2-AD0A-592DD13F43B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3DAC-5241-4032-908F-CFBD75EA40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14240" y="985320"/>
            <a:ext cx="814392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Речи вести – не лапти плести</a:t>
            </a:r>
            <a:endParaRPr b="0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2571480"/>
            <a:ext cx="7239240" cy="26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            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            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МКОУ «СОШ с. Благовещенка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            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Гридунова Елена Витальев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93" name="Почему мы так говорим.mp4" descr=""/>
          <p:cNvPicPr/>
          <p:nvPr/>
        </p:nvPicPr>
        <p:blipFill>
          <a:blip r:embed="rId1"/>
          <a:stretch/>
        </p:blipFill>
        <p:spPr>
          <a:xfrm>
            <a:off x="1042920" y="765000"/>
            <a:ext cx="716436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6920" y="98064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Arial"/>
              </a:rPr>
              <a:t>Почему мы так говорим?</a:t>
            </a:r>
            <a:endParaRPr b="0" lang="en-US" sz="6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41400" y="32040"/>
            <a:ext cx="857196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озги -свистульки,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ттестат </a:t>
            </a:r>
            <a:r>
              <a:rPr b="1" lang="ru-RU" sz="4000" spc="-1" strike="noStrike">
                <a:solidFill>
                  <a:srgbClr val="7030a0"/>
                </a:solidFill>
                <a:latin typeface="Verdana"/>
                <a:ea typeface="Times New Roman"/>
              </a:rPr>
              <a:t>–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титулка,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ицо </a:t>
            </a:r>
            <a:r>
              <a:rPr b="1" lang="ru-RU" sz="4000" spc="-1" strike="noStrike">
                <a:solidFill>
                  <a:srgbClr val="7030a0"/>
                </a:solidFill>
                <a:latin typeface="Verdana"/>
                <a:ea typeface="Times New Roman"/>
              </a:rPr>
              <a:t>–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лупетка,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лаза </a:t>
            </a:r>
            <a:r>
              <a:rPr b="1" lang="ru-RU" sz="4000" spc="-1" strike="noStrike">
                <a:solidFill>
                  <a:srgbClr val="7030a0"/>
                </a:solidFill>
                <a:latin typeface="Verdana"/>
                <a:ea typeface="Times New Roman"/>
              </a:rPr>
              <a:t>–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гляделки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лассные дамы - синявки,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учшие ученицы-сливки, парфетки,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Худшие по поведению-мовешки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3300"/>
                </a:solidFill>
                <a:latin typeface="Arial"/>
              </a:rPr>
              <a:t>Синквейн</a:t>
            </a:r>
            <a:endParaRPr b="0" lang="en-US" sz="6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первая строка – название темы (одно существительное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вторая – описание темы в двух словах, два прилагательных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третья – строка описание действия в рамках этой темы тремя словам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четвёртая строка –целое предложени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последняя строка – синоним, который повторяет суть тем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85840" y="499680"/>
            <a:ext cx="85723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ечь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авильная, добра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богащает, очищает, объединяе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ботай над собственной речью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уш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-642600"/>
            <a:ext cx="7313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42920" y="142560"/>
            <a:ext cx="885816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Verdana"/>
              </a:rPr>
              <a:t>Диалог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Сёдня на улице дубак такой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- Блин, вчера тепло было, а сёдня, я фигею, такой дубак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-Ё-моё, контроша  ведь сёдня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-Всё выучил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- Ты чё, тормоз? Шпор наделал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14760" y="32760"/>
            <a:ext cx="652356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Calibri"/>
              </a:rPr>
              <a:t>Не базарь – не говори;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Calibri"/>
              </a:rPr>
              <a:t>Не гони – не обманывай;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Calibri"/>
              </a:rPr>
              <a:t>Оттянуться-отдохнуть;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Calibri"/>
              </a:rPr>
              <a:t>Наезжать- приставать;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Calibri"/>
              </a:rPr>
              <a:t>За бугром – за границей;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Calibri"/>
              </a:rPr>
              <a:t>Слинять – уйти;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Calibri"/>
              </a:rPr>
              <a:t>Оторваться- веселиться;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Calibri"/>
              </a:rPr>
              <a:t>Тащусь-восхищаюсь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55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Заповеди речевого поведения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57120" y="928440"/>
            <a:ext cx="85010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Verdana"/>
              </a:rPr>
              <a:t>Всегда знай, с какой целью и зачем говориш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Verdana"/>
              </a:rPr>
              <a:t>Помни, что вежливость – основа речевого повед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Verdana"/>
              </a:rPr>
              <a:t>Избегай слов – паразит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Verdana"/>
              </a:rPr>
              <a:t>Говори просто, четко, понятн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Verdana"/>
              </a:rPr>
              <a:t>Избегай речевого однообраз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Verdana"/>
              </a:rPr>
              <a:t>Следуй высоким образца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4:03:33Z</dcterms:created>
  <dc:creator>Владелец</dc:creator>
  <dc:description/>
  <dc:language>en-US</dc:language>
  <cp:lastModifiedBy>Никита Гридунов</cp:lastModifiedBy>
  <dcterms:modified xsi:type="dcterms:W3CDTF">2015-01-25T19:26:42Z</dcterms:modified>
  <cp:revision>58</cp:revision>
  <dc:subject/>
  <dc:title>Лексика</dc:title>
</cp:coreProperties>
</file>